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2AE-9532-4784-B559-082B2CC0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9C3-DC92-4678-8723-70E4833B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359-4351-4F2E-9A3B-976F1443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F35-B2DC-4AE0-B1FC-82491723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1939-3659-4388-9532-22696F84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C681-5BC3-4105-8D8F-03580FFC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BE9B-5329-4E99-93B0-6D95B33C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1B78-B66E-43E4-AA1A-D775A71B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28F2-3ABB-483D-8DCC-FDB7B133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93D0-444E-469F-BB7D-183A8600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1118-C917-41E7-8824-3FB40DC7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3C3-F18E-49AE-857D-67FB8E4A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D25B-F7A1-4B37-ADD7-7096AB91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10B2-F7CF-4531-B83B-CA150058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3DBA-FA26-4D8B-9226-A0B84241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65EB-72E6-4354-BB17-D56A0E8A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E5D2-5AE8-426C-BCC6-C280D4B8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6D3-197A-4C40-8EF8-0B9867EB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90B-373C-4401-9124-FEFDD4B7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8AD-35A2-408F-9E94-3F65AFCF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A19-E945-4D32-86D2-B17F8BDC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7F5-2211-43CF-91E6-6CC6A9B7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705-2001-4777-8FBA-4AF01AE6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7F4-61FC-4AA7-9C2D-EEB0BAA4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F1D1-41D1-452C-BCEA-C2100B429B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DB2C-734E-4AB2-9FB2-C0E798A28C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arm-Up Sent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ackie robinson the first black major league baseball player played his first game with the brooklyn dodgers in 194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be Ruth held the American record for home runs until the 1970s he still holds the record for strikeou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Journal #1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be a child throwing a tantru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arm-Up Sent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aska, the largest state with the fewest people has one third of it’s land inside the Artic Circ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umorist, Mark Twain (1835-1910) wore white linen suits in summer and in winter, because they made him feel “clean in a dirty world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Journal #2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ide a step-by-step manual on how to fall aslee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Friday Warm-up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nonyms are words that mean the same thing, like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cool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chill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 Brainstorm eight synonyms for the verb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wal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 Write a sentence for each synony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31:45Z</dcterms:created>
  <dc:creator>tpagel</dc:creator>
  <dc:description/>
  <dc:language>en-US</dc:language>
  <cp:lastModifiedBy>tpagel</cp:lastModifiedBy>
  <dcterms:modified xsi:type="dcterms:W3CDTF">2010-07-25T21:48:27Z</dcterms:modified>
  <cp:revision>2</cp:revision>
  <dc:subject/>
  <dc:title>Warm-Up Sentences</dc:title>
</cp:coreProperties>
</file>